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6C0-726B-4F1E-BB44-66A4FD9A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439-41F4-459C-842D-93138355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E80-29DB-4CE4-9976-95475D9F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A92-DFEB-43E1-95F7-A13614AA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E53-F30C-4262-8CA9-73C5458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263-6B93-4C98-890F-B452D8D6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EE8-B397-4857-8901-B2A1EA32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6EF-43A4-46B7-91C7-D1B2B92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2B2-96A8-4081-9C26-2C1B7CFB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112-E9B8-4099-BD57-D4A32D0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DA7-4F6C-40AD-B76B-4929DC2E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56D-5E7A-4332-A21E-0E39B0D7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511A-569C-450C-ACE9-625DD9DA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eb.mit.edu/invent/iow/hulahoop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447920"/>
            <a:ext cx="4800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ula Hoo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39625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rra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0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ula Hoop"/>
          <p:cNvPicPr/>
          <p:nvPr/>
        </p:nvPicPr>
        <p:blipFill>
          <a:blip r:embed="rId2"/>
          <a:stretch/>
        </p:blipFill>
        <p:spPr>
          <a:xfrm>
            <a:off x="0" y="0"/>
            <a:ext cx="9144000" cy="145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4191120"/>
            <a:ext cx="525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ry_Little_Wor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. 27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oop girl"/>
          <p:cNvPicPr/>
          <p:nvPr/>
        </p:nvPicPr>
        <p:blipFill>
          <a:blip r:embed="rId2"/>
          <a:stretch/>
        </p:blipFill>
        <p:spPr>
          <a:xfrm>
            <a:off x="152280" y="152280"/>
            <a:ext cx="2895840" cy="343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29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505320"/>
            <a:ext cx="266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Richard Knerr and Spud Melin Feb 23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hulahoo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52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Knerr and Spud Melin invented the hula hoop. I have a hula hoop 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76720" y="762120"/>
            <a:ext cx="3581280" cy="33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14800" y="4114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Hula H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la hoops used to be made out of vine, plants, wood, or 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ame came from a Hawaiian dance that imitated the movement of the hula h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m-o sold 25 million hula hoops in two mon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end of 1958, after 45 million dollars, the craze started to go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la hoop could cause sprains, pains, and even heart att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an exercise for adults and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s: Richard Knerr and Spud M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a hoops started to die out at the end of 195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Knerr and Spud Melin discovered the frisb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5181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03:05Z</dcterms:created>
  <dc:creator>install</dc:creator>
  <dc:description/>
  <dc:language>en-US</dc:language>
  <cp:lastModifiedBy>install</cp:lastModifiedBy>
  <dcterms:modified xsi:type="dcterms:W3CDTF">2012-03-09T15:00:49Z</dcterms:modified>
  <cp:revision>5</cp:revision>
  <dc:subject/>
  <dc:title>Slide 1</dc:title>
</cp:coreProperties>
</file>